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708-029F-41E4-B5DE-DA9CF9D2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CBB-9A8A-4CE1-8F27-FF2FDB7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71B-0451-4C5A-9FC0-F2DF383A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E5E-D8DD-464A-96D2-33E8B586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609-99FE-404B-8CF9-0DA0540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1BB-02CD-462B-A746-7A241594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B3E-63C8-442A-8031-D6976FC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9D-16F0-48C5-9367-17393D0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F73-FE7B-4A8F-8F5B-B6721D3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5B2-EA8B-4309-B12D-D606FE8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9AE-D878-4CC2-8FA8-3A19925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A96-B586-4F37-9667-24A8E2E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C7F-E815-4310-997B-BAE405E1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64120" y="2209680"/>
            <a:ext cx="29606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685800"/>
            <a:ext cx="4724280" cy="4048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4724280" cy="404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-1371600" y="2286000"/>
            <a:ext cx="4876920" cy="419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800600" y="-852480"/>
            <a:ext cx="48006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7080" y="127080"/>
            <a:ext cx="8889840" cy="66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952880"/>
            <a:ext cx="1374480" cy="156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308240" cy="149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54240" y="685800"/>
            <a:ext cx="1239840" cy="141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1374840" cy="156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80880" y="2209680"/>
            <a:ext cx="164160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162920" y="2286000"/>
            <a:ext cx="16412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259236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438280" y="1905120"/>
            <a:ext cx="182736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762120" y="60948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981080" y="-30492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30640" y="-228600"/>
            <a:ext cx="5913360" cy="7391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02256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0" y="-609480"/>
            <a:ext cx="4343400" cy="376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762120" y="0"/>
            <a:ext cx="47246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5913360" cy="739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657600" cy="3543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7242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-990720"/>
            <a:ext cx="7127640" cy="807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4724280" cy="404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48520" y="419112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876920" y="-838080"/>
            <a:ext cx="5562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8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5480" y="-304920"/>
            <a:ext cx="5913720" cy="7391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228600" y="2133720"/>
            <a:ext cx="3322800" cy="44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-347760"/>
            <a:ext cx="4952880" cy="376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019920" y="0"/>
            <a:ext cx="480060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22:47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